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21.png" ContentType="image/png"/>
  <Override PartName="/ppt/media/image20.wmf" ContentType="image/x-wmf"/>
  <Override PartName="/ppt/media/image3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688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4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5720" y="-360"/>
            <a:ext cx="4029120" cy="344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27520" y="515880"/>
            <a:ext cx="3441600" cy="25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3268440"/>
            <a:ext cx="7435800" cy="3097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35440"/>
            <a:ext cx="4029120" cy="344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5720" y="6535440"/>
            <a:ext cx="4029120" cy="344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D4124B-1ACF-4CBB-B25E-9FB834381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265720" y="6535800"/>
            <a:ext cx="4029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9C2A7D-9E7A-4708-9FBA-D153FED2D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927520" y="515880"/>
            <a:ext cx="3441600" cy="2581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29880" y="3268440"/>
            <a:ext cx="743580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596-AA39-4D82-81FA-2D220C4F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963E-729F-4096-90E9-2403B7D7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09C-0324-4249-8D1D-91D60370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82F-2B14-4DCA-BE38-3C9E4739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C48-03AE-472A-A8CA-AFA6BF49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F2D-17AC-4B54-96F6-0AB74C7B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C8C-B83A-4B1C-B670-811DC4F0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27D-AAEB-4620-AD46-44A592F2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333-5070-444C-B633-B948185E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9353-560A-40B7-8895-D833EE54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250-7D62-482B-940F-C8B636C4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C481-0944-4A8C-B5A1-C424E1F9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77F7-4435-4B33-B7C5-25AB2C9AC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osha.gov/" TargetMode="External"/><Relationship Id="rId2" Type="http://schemas.openxmlformats.org/officeDocument/2006/relationships/hyperlink" Target="mailto:david@relational-culture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90512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Comic Sans MS"/>
              </a:rPr>
              <a:t>ABCs for Preventing Workplace Violen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4191120"/>
            <a:ext cx="73915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David Lighthall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Research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Lucida Sans Unicode"/>
              </a:rPr>
              <a:t>The Relational Culture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Lucida Sans Unicode"/>
              </a:rPr>
              <a:t>Fresno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isk Factor 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condition that may increase a worker’s risk for viol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lipbrd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981080" y="3124080"/>
            <a:ext cx="5029200" cy="3419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514600" y="411480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                                                                   Examples of Risk Factors on Your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Risk Factors Includ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alone or in smal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late night/early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with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ing passengers, goods o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a mobile workplace like a taxicab or police 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in high crime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ding property or pos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ith the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Risk Factors Includ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267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mpetitive sectors with intense workloads, e.g. food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ucturing of an organization, e.g. impending layo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ing warning signs from certain individuals who have a gripe with co-workers o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ing an ongoing feud between co-workers to go unaddressed b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 verbal abuse by a supervisor towards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ial on the part of management regarding employee tension or favoritism towards one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school mentality by management that tolerates and enables supervisor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Violence Be Prevented on the Job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bd07179_"/>
          <p:cNvPicPr/>
          <p:nvPr/>
        </p:nvPicPr>
        <p:blipFill>
          <a:blip r:embed="rId1"/>
          <a:stretch/>
        </p:blipFill>
        <p:spPr>
          <a:xfrm>
            <a:off x="1905120" y="2514600"/>
            <a:ext cx="548640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vention Strategies (External Ris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work alone late at night or early 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or a security escort if working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a cellular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sign workspace to prevent entra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staff in ways to diffuse viol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1640" y="20574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curved mirrors at hallway inter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good lighting indoors and outd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plan for consumers who “act ou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ccess to employee work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vention Strategies (Internal Ris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Assessment:  Confidential survey of all employees designed to uncover internal risk factors, coupled with analysis of external risk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of overall risk analysis to top management, along with supporting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PV training for all levels of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tivity training for high-risk employees 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-up survey of employees to gauge impact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ding to a Violent Inc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/secure the work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9-1-1 if an emer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 medical attention for vict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the incident to your super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the incident to your shop ste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an inciden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sychological trauma occurs call EAP for post-incident debrie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 referral to EAP to the vict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ve Warning Signs of Escalating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bd07151_"/>
          <p:cNvPicPr/>
          <p:nvPr/>
        </p:nvPicPr>
        <p:blipFill>
          <a:blip r:embed="rId1"/>
          <a:stretch/>
        </p:blipFill>
        <p:spPr>
          <a:xfrm>
            <a:off x="4572000" y="1523880"/>
            <a:ext cx="279396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ning Signs of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son appears bewildered or dist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unsure or uncertain of the next course of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hmm"/>
          <p:cNvPicPr/>
          <p:nvPr/>
        </p:nvPicPr>
        <p:blipFill>
          <a:blip r:embed="rId1"/>
          <a:stretch/>
        </p:blipFill>
        <p:spPr>
          <a:xfrm>
            <a:off x="5410080" y="1676520"/>
            <a:ext cx="1352520" cy="3657600"/>
          </a:xfrm>
          <a:prstGeom prst="rect">
            <a:avLst/>
          </a:prstGeom>
          <a:ln w="0">
            <a:noFill/>
          </a:ln>
        </p:spPr>
      </p:pic>
      <p:sp>
        <p:nvSpPr>
          <p:cNvPr id="99" name="WordArt 7"/>
          <p:cNvSpPr txBox="1"/>
          <p:nvPr/>
        </p:nvSpPr>
        <p:spPr>
          <a:xfrm>
            <a:off x="0" y="5638680"/>
            <a:ext cx="9144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How would you respond to a person who is confused?</a:t>
            </a:r>
            <a:endParaRPr b="0" lang="en-US" sz="32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s to Con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en Attentively to the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k clarifying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 factual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ear2"/>
          <p:cNvPicPr/>
          <p:nvPr/>
        </p:nvPicPr>
        <p:blipFill>
          <a:blip r:embed="rId1"/>
          <a:stretch/>
        </p:blipFill>
        <p:spPr>
          <a:xfrm>
            <a:off x="5486400" y="2666880"/>
            <a:ext cx="238608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ng Violence at the Workp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BD06990_"/>
          <p:cNvPicPr/>
          <p:nvPr/>
        </p:nvPicPr>
        <p:blipFill>
          <a:blip r:embed="rId1"/>
          <a:stretch/>
        </p:blipFill>
        <p:spPr>
          <a:xfrm>
            <a:off x="3124080" y="3809880"/>
            <a:ext cx="289584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ning Signs of Fru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son is impatient and re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son resists information you are giv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son may try to bai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j0078842"/>
          <p:cNvPicPr/>
          <p:nvPr/>
        </p:nvPicPr>
        <p:blipFill>
          <a:blip r:embed="rId1"/>
          <a:stretch/>
        </p:blipFill>
        <p:spPr>
          <a:xfrm>
            <a:off x="5105520" y="1905120"/>
            <a:ext cx="2571480" cy="3105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6"/>
          <p:cNvSpPr txBox="1"/>
          <p:nvPr/>
        </p:nvSpPr>
        <p:spPr>
          <a:xfrm>
            <a:off x="171360" y="5721480"/>
            <a:ext cx="897264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ow would you respond to a person who is frustrated?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s to Fru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he person to a quiet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sure them, talk to them in a calm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 to clarify their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talk5"/>
          <p:cNvPicPr/>
          <p:nvPr/>
        </p:nvPicPr>
        <p:blipFill>
          <a:blip r:embed="rId1"/>
          <a:stretch/>
        </p:blipFill>
        <p:spPr>
          <a:xfrm>
            <a:off x="4495680" y="4343400"/>
            <a:ext cx="42436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ning Signs of Bl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son places responsibility on everyone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ay accuse you or hold you respo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ay find fault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ay place blame on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stabbed"/>
          <p:cNvPicPr/>
          <p:nvPr/>
        </p:nvPicPr>
        <p:blipFill>
          <a:blip r:embed="rId1"/>
          <a:stretch/>
        </p:blipFill>
        <p:spPr>
          <a:xfrm>
            <a:off x="4724280" y="2743200"/>
            <a:ext cx="3856320" cy="26082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7"/>
          <p:cNvSpPr txBox="1"/>
          <p:nvPr/>
        </p:nvSpPr>
        <p:spPr>
          <a:xfrm>
            <a:off x="685800" y="6200640"/>
            <a:ext cx="79246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ow would you respond to a person who is blaming?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s to Bl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engage with the person and bring a second party into the 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 teamwork appro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w the person back to the f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 respect and conc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 on areas of agreement to help resolve the sit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bd06650_"/>
          <p:cNvPicPr/>
          <p:nvPr/>
        </p:nvPicPr>
        <p:blipFill>
          <a:blip r:embed="rId1"/>
          <a:stretch/>
        </p:blipFill>
        <p:spPr>
          <a:xfrm>
            <a:off x="4800600" y="1981080"/>
            <a:ext cx="389736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ning Signs of A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343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son may show a visible change in body pos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 may include pounding fists, pointing fingers, shouting or scre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ignals VERY RISKY BEHAVIO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hm00376_"/>
          <p:cNvPicPr/>
          <p:nvPr/>
        </p:nvPicPr>
        <p:blipFill>
          <a:blip r:embed="rId1"/>
          <a:stretch/>
        </p:blipFill>
        <p:spPr>
          <a:xfrm>
            <a:off x="5181480" y="2209680"/>
            <a:ext cx="3268800" cy="3468960"/>
          </a:xfrm>
          <a:prstGeom prst="rect">
            <a:avLst/>
          </a:prstGeom>
          <a:ln w="0">
            <a:noFill/>
          </a:ln>
        </p:spPr>
      </p:pic>
      <p:sp>
        <p:nvSpPr>
          <p:cNvPr id="120" name="WordArt 6"/>
          <p:cNvSpPr txBox="1"/>
          <p:nvPr/>
        </p:nvSpPr>
        <p:spPr>
          <a:xfrm>
            <a:off x="533520" y="5967360"/>
            <a:ext cx="838188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How would you resond to a person who is angry?</a:t>
            </a:r>
            <a:endParaRPr b="0" lang="en-US" sz="24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s to A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argue with the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offer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to evacuate the area or isolate the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your supervisor and security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bd07169_"/>
          <p:cNvPicPr/>
          <p:nvPr/>
        </p:nvPicPr>
        <p:blipFill>
          <a:blip r:embed="rId1"/>
          <a:stretch/>
        </p:blipFill>
        <p:spPr>
          <a:xfrm>
            <a:off x="5029200" y="2666880"/>
            <a:ext cx="35812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ning Signs of Host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actions or threats appear imm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immediate danger of physical harm or property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-of-control behavior signals the person has crossed the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j0079250"/>
          <p:cNvPicPr/>
          <p:nvPr/>
        </p:nvPicPr>
        <p:blipFill>
          <a:blip r:embed="rId1"/>
          <a:stretch/>
        </p:blipFill>
        <p:spPr>
          <a:xfrm>
            <a:off x="4678200" y="2133720"/>
            <a:ext cx="2899080" cy="3319200"/>
          </a:xfrm>
          <a:prstGeom prst="rect">
            <a:avLst/>
          </a:prstGeom>
          <a:ln w="0">
            <a:noFill/>
          </a:ln>
        </p:spPr>
      </p:pic>
      <p:sp>
        <p:nvSpPr>
          <p:cNvPr id="127" name="WordArt 6"/>
          <p:cNvSpPr txBox="1"/>
          <p:nvPr/>
        </p:nvSpPr>
        <p:spPr>
          <a:xfrm>
            <a:off x="609480" y="6286680"/>
            <a:ext cx="8221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ow would you respond to a hostile person?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s to Host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ngage with the person and evacuate 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 to isolate the person if it can be done saf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rt your supervisor and contact security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30" descr="bd07122_"/>
          <p:cNvPicPr/>
          <p:nvPr/>
        </p:nvPicPr>
        <p:blipFill>
          <a:blip r:embed="rId1"/>
          <a:stretch/>
        </p:blipFill>
        <p:spPr>
          <a:xfrm>
            <a:off x="5410080" y="1828800"/>
            <a:ext cx="24368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re information about workplace violence you may visit OSHA and Cal/OSHA’s websites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sha.go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ww.dir.ca.gov/dosh/dosh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ontact me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avid@relational-cultur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59 276-2304, ext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workplace violence and explain the four categories of workplace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key facts about workplace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risk factors for potential violence at the work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everal ways to prevent violence a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e post-incident reporting and response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key elements in a workplace violence prevention poli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how to handle an ang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Workplace Violence?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e the subjective nature of 2-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Ass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tening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a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E01496_"/>
          <p:cNvPicPr/>
          <p:nvPr/>
        </p:nvPicPr>
        <p:blipFill>
          <a:blip r:embed="rId1"/>
          <a:stretch/>
        </p:blipFill>
        <p:spPr>
          <a:xfrm>
            <a:off x="5562720" y="2743200"/>
            <a:ext cx="29224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Categories of Workplace Vio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ence by Strangers Committing Robb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ence by Customers, Clients, or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ence by Employees and Supervi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ence by Domestic Partners or Relatives of Employees (new categ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 or False:  Violence is the leading cause of death on the jo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ding cause of death on the job is vehicle acci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ce is the SECOND leading cause…both in the nation and in Califor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bd07198_"/>
          <p:cNvPicPr/>
          <p:nvPr/>
        </p:nvPicPr>
        <p:blipFill>
          <a:blip r:embed="rId1"/>
          <a:stretch/>
        </p:blipFill>
        <p:spPr>
          <a:xfrm>
            <a:off x="2666880" y="3352680"/>
            <a:ext cx="32004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 or False:  Homicide is the leading cause of death for women in the workpla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bd07178_"/>
          <p:cNvPicPr/>
          <p:nvPr/>
        </p:nvPicPr>
        <p:blipFill>
          <a:blip r:embed="rId1"/>
          <a:stretch/>
        </p:blipFill>
        <p:spPr>
          <a:xfrm>
            <a:off x="2895480" y="2971800"/>
            <a:ext cx="410688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 or False: Disputes between workers and supervisors are the main motive for workplace homicid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.  Robberies account for the majority of workplace homic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sl00370_"/>
          <p:cNvPicPr/>
          <p:nvPr/>
        </p:nvPicPr>
        <p:blipFill>
          <a:blip r:embed="rId1"/>
          <a:stretch/>
        </p:blipFill>
        <p:spPr>
          <a:xfrm>
            <a:off x="685800" y="4572000"/>
            <a:ext cx="2514600" cy="1662120"/>
          </a:xfrm>
          <a:prstGeom prst="rect">
            <a:avLst/>
          </a:prstGeom>
          <a:ln w="0">
            <a:noFill/>
          </a:ln>
        </p:spPr>
      </p:pic>
      <p:sp>
        <p:nvSpPr>
          <p:cNvPr id="69" name="WordArt 6"/>
          <p:cNvSpPr txBox="1"/>
          <p:nvPr/>
        </p:nvSpPr>
        <p:spPr>
          <a:xfrm>
            <a:off x="3276720" y="5334120"/>
            <a:ext cx="47815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75% of the victims were shot.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people are victims of non-fatal assaults on the job each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bd06979_"/>
          <p:cNvPicPr/>
          <p:nvPr/>
        </p:nvPicPr>
        <p:blipFill>
          <a:blip r:embed="rId1"/>
          <a:stretch/>
        </p:blipFill>
        <p:spPr>
          <a:xfrm>
            <a:off x="3048120" y="2286000"/>
            <a:ext cx="2966760" cy="2852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380880" y="55627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000,000 workers are victims each year in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22:24:05Z</dcterms:created>
  <dc:creator>nargain</dc:creator>
  <dc:description/>
  <dc:language>en-US</dc:language>
  <cp:lastModifiedBy>Shani Klein</cp:lastModifiedBy>
  <dcterms:modified xsi:type="dcterms:W3CDTF">2015-04-30T13:22:02Z</dcterms:modified>
  <cp:revision>31</cp:revision>
  <dc:subject/>
  <dc:title>Preventing Violence at the Workplace</dc:title>
</cp:coreProperties>
</file>